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6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dt" idx="55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ftr" idx="5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 type="sldNum" idx="57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9792B-E17E-4725-9643-36FCA7807F4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BBD42-D4E0-4259-AE2D-C36C48CDC0D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4A7AF-CE8B-469A-86BA-B54C22F9CAE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7FEF9-E525-448D-ADA7-14463A5028C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211-E714-49AB-B1FF-D9C27B12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061-D794-48FA-AA77-EE8EA4B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A7D3-33FE-4DD3-890A-F51B1F29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541F2-1418-4979-BEF6-936F1C9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FEEB1-5D83-44D9-B8EB-1C5DE5CB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5072D-D09B-44E1-A448-BD2E830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EF154-B9DA-4D0E-817C-4DFBBBE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CD90A-C735-4C09-8F74-D21A6E4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52EFB-26E2-4163-95FA-B6F35B5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3ABA2-1FED-452A-84B0-92F8DDC6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ABBFD-AF7F-49C7-BEB9-54AA82FD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0B41D-E661-4D67-918D-442FE83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601-8B8E-4875-9E45-8554E867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D1C8C-371C-4EFC-90B2-F604AFA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691A8-6AB9-4A89-BB64-648B9DCA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6A40E-48F0-4295-A47C-906788C4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17838-289A-49C5-B6D8-B16F736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CDBE9-14CE-49B2-8DC5-A5910D4B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B515B-3C77-49F6-9B6D-54CBC49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95B6F-0244-4C13-AC9E-BEBA381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0B7B2-54D9-450D-A47C-005F505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D3B8-146D-4D3B-9C20-A6D0C6D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F4A8C-674E-4005-BA18-D962196E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968-F006-479C-8650-3C7F6CB0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24386-EE42-44D0-9ECD-532AF027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EB6A-B7C9-4CD0-9CD8-1F766880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44500-BC92-4C52-B74F-651F2242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AB3A1-A98F-4CA4-8E33-B0F72059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D5EB4-0C59-4372-B96F-BB4E920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23865-F7C2-493F-BA7C-48CD037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A4849-B24B-47D8-A9D0-5D5D6257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817AF-C014-41B9-B8EF-997B7FD9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FE9F3-FF7F-46D0-B91C-AEAA4791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1C741-40AE-460B-9EC8-B6F2F38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69C5-5B50-448E-94B4-49B38348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863C4-37B3-47D9-84C4-31296930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DA73E-130A-451C-BBF7-4883F2A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BEC6-C7D1-46E2-9F64-EBB34CD3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F7D10-E0C4-40E5-9C76-5B87EE3D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D5EC7-3334-45CB-9AD4-207A4180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3A2B0-FB83-48CB-ACD1-85E0D5B0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1DAB5-93D1-49FA-A170-13764B5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06441-9E71-41AC-A96F-EDF0E7D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2CC49-FEC4-407B-A6EC-8BBB40A9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CB140-58A7-4A0C-B79D-A8F1287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E592-B42B-4712-AABB-4875B080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98C84-0ADB-416A-9266-D6A6874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779B3-5A15-4FF4-8CE9-995BB85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5865B-091F-4415-A80C-27C19A34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0610-404E-454A-856D-C6C44ABC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7180D-3760-4988-8698-C8C96796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6B260-383F-418E-A424-AF6AB379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11147-4BF8-4D2F-A37C-9BB2685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2B8AD-E091-4652-B49B-5BFDAB1B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C3EA5-F2C0-4FA2-A777-DE3F873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E9CA1-AC14-4068-8BBD-4548D86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07B6-1DA0-44DF-B4D3-FDD821C5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FA28D-5D95-4430-ACF0-F9BCC218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5B287-FAC7-4491-96DC-B1228FE4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3F855-55DF-4D06-87F3-20E2EA6E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85DF7-06B3-4423-B538-9E6E816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7872E-B98C-4F66-B8B9-EB6D9710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5B5A7-7E5C-4F80-9DFD-F4276254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FDC7F-82C9-4B41-8B11-6080731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E0629-B863-4C1B-9778-CB19A89B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591EA-E9F1-470D-8AA2-D398BC0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C7264-2509-41E4-BD94-F46B1E67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C8E-3166-461E-97BB-B94A602E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32B14-CBAC-4BC4-9B80-A6E47B14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965A3-E368-47C3-83ED-4BBAFDA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412CD-7A0A-4784-8751-B64D7EC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CCD2B-AE0D-41E0-BFF3-1A2262CD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40BF5-10F3-48E2-BE66-ED7B0DBD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83F2C-84F6-41FA-BD77-B18C8AB9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29B3D-9E43-45F6-A602-F691F873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F96DD-A15B-4542-AC25-E15F6104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4934A-77C7-4DAC-8EC9-C9E29AF4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93D28-B2D1-4627-8639-BFCFB7E8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0992-A1A5-41A5-BFDA-48E454A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A77A9-E1BE-4576-B90B-1A7C7465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9D87D-1B89-47E7-9C62-A2AC44C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79CCD-1DB4-4F49-A4E9-A3973376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2FFF1-1CE5-4102-AB81-9F1E889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D90CF-D0AE-4D7E-877B-7F57FA9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90D3D-94BB-43EC-A5DF-E11A301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DE291-A4D0-421C-992D-B2C33F9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D05C3-31DA-4ED5-81E3-5E1B889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A219E-3FA0-4132-864B-683E5A7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2D4CF-EBED-4C76-B0CF-9FBF77CF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F908-9627-4331-8964-ECA76B5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01155-2D9E-45E9-B682-4C886A65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4B902-885A-44AA-A5D6-B859738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D721D-25DD-49AB-BEE1-E5222ED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33526-311C-47E5-9C73-07B6117E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2D02B-9752-4BC0-88A4-73CD1A31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0C8A1-1B5A-422E-A778-AE9FFCFB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18043-72D3-45AD-9C60-053027FD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B1FF8-BE23-4DF0-91BE-1674C59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886FF-9EE8-45C0-8E64-677C4B9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609D8-A2BD-4213-88F1-67AC223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F51D-5924-4C57-9335-F8CA344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B28DF-8BAB-4A0B-B9D5-080AC2C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FB795-054B-471C-8895-BA4C6100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DFE47-8E17-4163-8DCD-F6E06226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4043B-5E49-4A14-91CC-BAB2CB3F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61087-1934-4022-900A-439FAB8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CE105-64BF-4580-AF0B-DFE439B5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84D00-0E02-4D65-938B-81BDCABF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B0E79-2C86-45D1-B6C1-92EEDEAB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9CD02-046D-4646-AA73-9D30719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F2413-14F7-44E1-B126-83AF4BF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35A-6ADD-4D5C-B760-2CBCCF31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0BB1-A114-4E6F-9211-EEF6789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5AF0E-5537-4EEE-94C9-8F3F3BE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5529B-F3A8-4104-AE3A-B2320F3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B7B5DA-563F-49D5-B67D-A65DDA1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BD659-B93C-48CA-BA11-6EB6DFFE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1518D-3E1A-4DDF-9A6C-72665B81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BC416-2C0B-4375-B061-D78A16F6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5AE4A-ECE5-4AB0-8432-A6374CCD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B73EC-9E65-47A9-A8E3-69AC4716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C1253-E37B-4414-91D7-6C3FCA3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20558-7717-4C76-8D78-D0CB1D6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1778-B0BA-4B47-AA35-BF18F39E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F8E88-CE7C-401E-B05F-99D5ED1D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BEFF5-4C02-4077-B3E9-D72B85A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1374B-119D-43C9-972E-5A70E9CC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608E8-259B-42FB-AC6F-36ADEDA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7E7AB-51B5-4272-8CC6-5E616D4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32B9E-D41B-4B4B-916A-9E9474B0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2CF9C-F322-4194-A9F0-7AA22697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F040-B969-4703-9241-63E6FCC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072-92BA-42C4-BABD-171B07EF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16AD-7049-4ED0-BFA7-367E9C3E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0B85-5ECC-41B5-B46D-13AB471E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29C8-AFA2-4533-8BF2-F1B2B4A4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5214-A33A-43B8-B5B1-195BE9FC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94FA-BF48-457E-BC57-41642AA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AFAB-3C7F-48AB-80E9-C4DDE17C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773-E947-40BC-8200-BF2100D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4BC4-1FB5-4CE9-A027-2D8834A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712F-91F2-4BFE-B19B-5503714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609C-DA80-41F9-BE80-3D28ECD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4E47-3537-44A2-B57A-2E55D0E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A8AD-496F-431F-A965-44DA7D8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D34E-F390-4FE8-A3E2-2922114E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1924-3891-4DC8-BE9A-20A57816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F30E-5D48-4714-8C40-6E935074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0B3E-D940-4F61-A462-7C0FFD15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04D7-A31A-4028-8385-23F8B0A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73C-D959-4841-95E9-D3FD9806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4DF7-1386-4EC6-874E-9C2E2480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87BC-B9BD-4E4C-839D-EDB64015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FBA6-53AD-4042-A1FB-E811EB5A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1CCA-FEA1-4829-8F5E-BCF7F05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1CAE-E741-492A-989B-8E3D55C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4C88-E9A5-4066-B618-DBD1BB4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3FCF-912E-4204-8386-586BF7C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D612-22E3-401F-80FB-16C7E14D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B642-566E-45B6-BD48-C2B64912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50E7E-1B9E-497E-A569-30362D01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BC8-CE3C-420C-9611-FA10791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C61E-1A13-4249-9691-42CD0A3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1CC0-B2BF-44A3-9E55-6D712A9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0BA6-E6A4-454E-AB19-DF5C49A2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C94D-57E4-4EFF-9B31-ABF9ACCA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97B8-3ADB-4ED3-ACE2-7FC6F46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5FC2-180C-4566-A342-21F6C67A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2C1D-5749-4865-A335-27B3879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F1A7-937D-4BEB-89C2-B5EFF1A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F931-3E97-4458-A4A8-BEA7D7B6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9D90-7D5D-4712-B6B3-39BBDF47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259-F153-40EC-B8B7-1CB0280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3920-7E46-4A9A-89E2-39F7D156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1643-1912-4F46-A635-0DE9A3D7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908A-B969-44B2-B018-338E033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14BD-E4A3-482E-A34A-1547CE9E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DFD4C-D052-4AB9-949B-2361083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75A03-8AF1-45C8-837A-E02948E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859FE-952E-4805-8D6F-1A4B0A9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14D5-332F-4D3E-92A9-F71F331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1E16-3A99-4473-A908-2D459BB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D186-E3DC-434E-95BC-091E960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F6B-F74B-4426-B539-73B5D60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E15F-7CF3-4841-B405-BF576C9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57059-B6A4-4C21-ABDE-FDEA922B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BA261-82EB-403F-ABD4-B65F16A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3777-ADA2-443F-9B98-2209CD5C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F568-8292-48B6-8E37-52FD2AA4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7C52D-2D2C-4000-8399-5599070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FE20-202F-4C9E-AC4C-31A5EE2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2D65-A6A8-46F0-BE7F-B52584BE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44B54-DA1F-4828-8601-4E437DCA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2840F-EA34-4E4D-A8F3-D75D1DA7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B48-9801-46E6-BAC6-5A4AC97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FD31D-64C0-4C40-9B14-658E6F8A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7CB98-B3CF-4881-BCFA-7DCF4EA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78EC-FC68-42A4-836A-6973D640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31986-A53D-4F18-8EDD-0BD21E01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DE58-BEC6-46DE-895C-B3614427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82FEE-A493-41BC-8B6F-D840D0FC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9572-DDF5-4B72-A549-BDF5E43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5B0D-922D-442D-9F97-03F83D1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3E5C-FA20-4E26-915C-20FB8521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C4048-7D85-42D3-A517-3A4AE5A7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69D-B5E1-4404-A3C4-F38F2EB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742680" y="619200"/>
            <a:ext cx="842004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EAEA-888B-4724-86E9-204D2F6B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5C27-3163-4CB1-98A9-2501A9B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9747-D5C2-4D02-9965-AB674443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164E-8410-419B-BBC6-3931ACC5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742680" y="4155840"/>
            <a:ext cx="84200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96EBC-9AF9-44B7-904E-461B8ED7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57280" y="236700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426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57280" y="4155840"/>
            <a:ext cx="41086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2B28-B1B7-409B-B018-B1C73E0C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8992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36800" y="236700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4268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8992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436800" y="4155840"/>
            <a:ext cx="27111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0F27E-41D6-455B-9632-759EB598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009B-892F-471D-A31F-90F78A0B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31266-09CA-4854-9694-C865A50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EA11-82E4-486A-8D54-8F7A66E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4206D-5C79-4F6F-A50D-E4647F0EAB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AA80A-33A7-4175-A30C-DBE411A07B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9765C-D053-46FE-ADBA-AFDDC1539E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87A44-FDC1-4854-A666-C4D2DE0537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814320" y="754200"/>
            <a:ext cx="4953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8577360" y="2994120"/>
            <a:ext cx="495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C35B9-7507-4D23-BE94-76048E399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B98B7-493E-437F-BBBB-76F1B6A111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44668-2FB2-4E40-BA2A-908FCE11E7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72FB8-9494-460C-9FED-9C4E2E594D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B11D3-C162-423C-9E49-0A1F065132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4D867-ADC1-4E1B-A6A3-F224A0E6D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D10D3-2BDE-439D-953F-385CEE8D6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3B314-63B3-4981-8931-E65CF8F6F0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3080C-5BD8-402A-A8D9-71246F647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F1AE7-B4E2-4004-B2C1-6EC01DAD16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B4215-83CB-43D4-B977-BCACC03E05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CFCA7-9334-40E5-BA2A-394952E168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F4434-6B00-44A5-B567-BB05E80CD1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2680" y="619200"/>
            <a:ext cx="84200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42680" y="2367000"/>
            <a:ext cx="84200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238440" y="5882760"/>
            <a:ext cx="22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742680" y="5882760"/>
            <a:ext cx="542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542440" y="5882760"/>
            <a:ext cx="620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35367-3BAF-4CD3-B2BA-33D4FCFE9A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ecri.org/Pages/default.aspx" TargetMode="External"/><Relationship Id="rId2" Type="http://schemas.openxmlformats.org/officeDocument/2006/relationships/hyperlink" Target="https://www.ecri.org/Pages/default.aspx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8663040" cy="29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Tw Cen MT"/>
              </a:rPr>
              <a:t>IMPROVE QUALITY ACROSS ALL REGIONAL SERVICES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785880" y="3141360"/>
            <a:ext cx="807696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7f7f7f"/>
                </a:solidFill>
                <a:latin typeface="Tw Cen MT"/>
              </a:rPr>
              <a:t>MIDLAND DHBS BOARD DEVELOP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7f7f7f"/>
                </a:solidFill>
                <a:latin typeface="Tw Cen MT"/>
              </a:rPr>
              <a:t>NOVATEL ROTORUA LAKES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7f7f7f"/>
                </a:solidFill>
                <a:latin typeface="Tw Cen MT"/>
              </a:rPr>
              <a:t>11</a:t>
            </a:r>
            <a:r>
              <a:rPr b="0" lang="en-NZ" sz="2200" spc="-1" strike="noStrike" baseline="30000">
                <a:solidFill>
                  <a:srgbClr val="7f7f7f"/>
                </a:solidFill>
                <a:latin typeface="Tw Cen MT"/>
              </a:rPr>
              <a:t>TH</a:t>
            </a:r>
            <a:r>
              <a:rPr b="0" lang="en-NZ" sz="2200" spc="-1" strike="noStrike">
                <a:solidFill>
                  <a:srgbClr val="7f7f7f"/>
                </a:solidFill>
                <a:latin typeface="Tw Cen MT"/>
              </a:rPr>
              <a:t> APRIL 2017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7f7f7f"/>
                </a:solidFill>
                <a:latin typeface="Tw Cen MT"/>
              </a:rPr>
              <a:t>DR SHARON KLETCHKO LDHB QUALITY RISK CLINICAL GOVERNANCE DIRECT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13"/>
          <p:cNvSpPr/>
          <p:nvPr/>
        </p:nvSpPr>
        <p:spPr>
          <a:xfrm>
            <a:off x="0" y="3635280"/>
            <a:ext cx="9902880" cy="2667240"/>
          </a:xfrm>
          <a:prstGeom prst="rect">
            <a:avLst/>
          </a:prstGeom>
          <a:solidFill>
            <a:srgbClr val="f2f2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Oval 18"/>
          <p:cNvSpPr/>
          <p:nvPr/>
        </p:nvSpPr>
        <p:spPr>
          <a:xfrm>
            <a:off x="1725480" y="5951520"/>
            <a:ext cx="428004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4" name="Group 19" descr=""/>
          <p:cNvPicPr/>
          <p:nvPr/>
        </p:nvPicPr>
        <p:blipFill>
          <a:blip r:embed="rId1"/>
          <a:stretch/>
        </p:blipFill>
        <p:spPr>
          <a:xfrm>
            <a:off x="615960" y="1231920"/>
            <a:ext cx="2998800" cy="4614840"/>
          </a:xfrm>
          <a:prstGeom prst="rect">
            <a:avLst/>
          </a:prstGeom>
          <a:ln w="0">
            <a:noFill/>
          </a:ln>
        </p:spPr>
      </p:pic>
      <p:sp>
        <p:nvSpPr>
          <p:cNvPr id="805" name="TextBox 11"/>
          <p:cNvSpPr/>
          <p:nvPr/>
        </p:nvSpPr>
        <p:spPr>
          <a:xfrm>
            <a:off x="3956040" y="2676600"/>
            <a:ext cx="52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&gt;15% of hospital expenditure is due to treating safety fail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Opportunity cost to patients &amp; society (lost capacity &amp; productiv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Cost of safety failure includes loss of trust in the health system/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We have very poor understanding of the costs of harm in community, NGO and Primary-Care provi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We must organise effectively to live within our means!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TextBox 12"/>
          <p:cNvSpPr/>
          <p:nvPr/>
        </p:nvSpPr>
        <p:spPr>
          <a:xfrm>
            <a:off x="3376440" y="2055960"/>
            <a:ext cx="589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649939"/>
                </a:solidFill>
                <a:latin typeface="Arial"/>
              </a:rPr>
              <a:t>Cost to patients &amp; to DHBs from harm is hig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468160" y="296640"/>
            <a:ext cx="683748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WHY WE SHOULD COLLABORATE TO ADDRESS QUALITY &amp; SAFETY AS A PRIORIT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3"/>
          <p:cNvSpPr/>
          <p:nvPr/>
        </p:nvSpPr>
        <p:spPr>
          <a:xfrm>
            <a:off x="1440" y="4191120"/>
            <a:ext cx="9902880" cy="2666880"/>
          </a:xfrm>
          <a:prstGeom prst="rect">
            <a:avLst/>
          </a:prstGeom>
          <a:solidFill>
            <a:srgbClr val="f2f2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Oval 29"/>
          <p:cNvSpPr/>
          <p:nvPr/>
        </p:nvSpPr>
        <p:spPr>
          <a:xfrm>
            <a:off x="3652920" y="5951520"/>
            <a:ext cx="427968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Group 32" descr=""/>
          <p:cNvPicPr/>
          <p:nvPr/>
        </p:nvPicPr>
        <p:blipFill>
          <a:blip r:embed="rId1"/>
          <a:stretch/>
        </p:blipFill>
        <p:spPr>
          <a:xfrm>
            <a:off x="6711840" y="1219320"/>
            <a:ext cx="2992680" cy="4614840"/>
          </a:xfrm>
          <a:prstGeom prst="rect">
            <a:avLst/>
          </a:prstGeom>
          <a:ln w="0">
            <a:noFill/>
          </a:ln>
        </p:spPr>
      </p:pic>
      <p:sp>
        <p:nvSpPr>
          <p:cNvPr id="811" name="TextBox 14"/>
          <p:cNvSpPr/>
          <p:nvPr/>
        </p:nvSpPr>
        <p:spPr>
          <a:xfrm>
            <a:off x="210960" y="1017720"/>
            <a:ext cx="6154920" cy="55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The list still reflects the ‘To Err is Human’ findings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What we now know and appreciat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Preventability is ‘fluid’ over time </a:t>
            </a:r>
            <a:r>
              <a:rPr b="0" lang="mr-IN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–</a:t>
            </a: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 healthcare is and will continue to be a high risk industry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Trade-offs between the risks &amp; harms of clinical interventions are often made by clinician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Up to 17% of all hospitalisations are affected by one or more adverse events of which 30-70% are deemed preventable!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The costs of harm ‘dwarf’ the costs of preventing it: in studies prevention costs accounted for only 0.13% while costs of failure accounted for 4%-6%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‘</a:t>
            </a: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strategic prevention’ through a ‘system-perspective’ is essential as also increases ‘risks’ (Ovretveit 2009) if the implementation is not addressed through clinical-level interventions using clinically led processes </a:t>
            </a:r>
            <a:r>
              <a:rPr b="0" lang="mr-IN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–</a:t>
            </a:r>
            <a:r>
              <a:rPr b="0" lang="en-US" sz="2000" spc="-1" strike="noStrike">
                <a:solidFill>
                  <a:srgbClr val="595959"/>
                </a:solidFill>
                <a:latin typeface="Trebuchet MS"/>
                <a:ea typeface="Trebuchet MS"/>
              </a:rPr>
              <a:t> takes time and requires engagement!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944640" y="585720"/>
            <a:ext cx="81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d99c3f"/>
                </a:solidFill>
                <a:latin typeface="Trebuchet MS"/>
              </a:rPr>
              <a:t>Most of the burden is associated with a few adverse ev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44280" y="104400"/>
            <a:ext cx="842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OMMON ADVERSE EVENTS ARE PREVENTABLE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3"/>
          <p:cNvSpPr/>
          <p:nvPr/>
        </p:nvSpPr>
        <p:spPr>
          <a:xfrm>
            <a:off x="536400" y="5767560"/>
            <a:ext cx="3257640" cy="961920"/>
          </a:xfrm>
          <a:prstGeom prst="rect">
            <a:avLst/>
          </a:prstGeom>
          <a:solidFill>
            <a:srgbClr val="f2f2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Tw Cen MT"/>
                <a:ea typeface="Arial"/>
              </a:rPr>
              <a:t>* </a:t>
            </a:r>
            <a:r>
              <a:rPr b="0" lang="en-IN" sz="12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nadian data: CIHI, 201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rebuchet MS"/>
                <a:ea typeface="Trebuchet MS"/>
              </a:rPr>
              <a:t>☆ </a:t>
            </a:r>
            <a:r>
              <a:rPr b="0" lang="en-IN" sz="1200" spc="-1" strike="noStrike">
                <a:solidFill>
                  <a:srgbClr val="000000"/>
                </a:solidFill>
                <a:latin typeface="Trebuchet MS"/>
                <a:ea typeface="Trebuchet MS"/>
              </a:rPr>
              <a:t>UK DoH 200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rebuchet MS"/>
                <a:ea typeface="Trebuchet MS"/>
              </a:rPr>
              <a:t>+ European data, 2016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rebuchet MS"/>
                <a:ea typeface="Trebuchet MS"/>
              </a:rPr>
              <a:t>♟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rebuchet MS"/>
              </a:rPr>
              <a:t>USA data, 2007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Oval 20"/>
          <p:cNvSpPr/>
          <p:nvPr/>
        </p:nvSpPr>
        <p:spPr>
          <a:xfrm>
            <a:off x="3645000" y="5951520"/>
            <a:ext cx="427968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6" name="Group 21" descr=""/>
          <p:cNvPicPr/>
          <p:nvPr/>
        </p:nvPicPr>
        <p:blipFill>
          <a:blip r:embed="rId1"/>
          <a:stretch/>
        </p:blipFill>
        <p:spPr>
          <a:xfrm>
            <a:off x="6261120" y="1133640"/>
            <a:ext cx="2998800" cy="4614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16"/>
          <p:cNvSpPr/>
          <p:nvPr/>
        </p:nvSpPr>
        <p:spPr>
          <a:xfrm>
            <a:off x="646200" y="1058760"/>
            <a:ext cx="54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2fa3ee"/>
                </a:solidFill>
                <a:latin typeface="Arial"/>
                <a:ea typeface="Arial"/>
              </a:rPr>
              <a:t>Greater investment is therefore justified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179280" y="1601640"/>
            <a:ext cx="601056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atient harm occurs frequently </a:t>
            </a:r>
            <a:r>
              <a:rPr b="0" lang="mr-IN" sz="16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one in 18 (5.6% of hospitalisations)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600" spc="-1" strike="noStrike">
                <a:solidFill>
                  <a:srgbClr val="595959"/>
                </a:solidFill>
                <a:latin typeface="Arial"/>
              </a:rPr>
              <a:t>12.5% of these admissions* resulted in death (4x more than those without an ADE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600" spc="-1" strike="noStrike">
                <a:solidFill>
                  <a:srgbClr val="595959"/>
                </a:solidFill>
                <a:latin typeface="Arial"/>
              </a:rPr>
              <a:t>Patients with an ADE spent 4x longer in hospital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HAIs occurred 1 in 41% hospitalisations (2.4%)* and, 2.6% of public hospital expenditure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☆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VTE accounts for between 3.8% &amp; 6% of public hospital spending +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ADEs due to invasive surgical procedures prolong hospital stay up to16 days♟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Many ADEs are able to be ‘systematically prevented’ </a:t>
            </a:r>
            <a:r>
              <a:rPr b="0" lang="mr-IN" sz="16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clinically informed standardised policies &amp; procedur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educing harmful events should free up resources—living within our means &amp; for new investment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Leverages off the existing investment in the HQSC work programme but supports local opportunities for chang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107800" y="4320"/>
            <a:ext cx="65358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INVESTING IN PATIENT SAFETY HAS A POSITIVE RETUR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3"/>
          <p:cNvSpPr/>
          <p:nvPr/>
        </p:nvSpPr>
        <p:spPr>
          <a:xfrm>
            <a:off x="1440" y="4191120"/>
            <a:ext cx="9902880" cy="2666880"/>
          </a:xfrm>
          <a:prstGeom prst="rect">
            <a:avLst/>
          </a:prstGeom>
          <a:solidFill>
            <a:srgbClr val="f2f2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22320"/>
            <a:ext cx="827388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Tw Cen MT"/>
              </a:rPr>
              <a:t>THE MIDLAND REGIONAL ANSWER TO ADDRESSING PATIENT SAFETY IS IN HAND!!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Oval 60"/>
          <p:cNvSpPr/>
          <p:nvPr/>
        </p:nvSpPr>
        <p:spPr>
          <a:xfrm>
            <a:off x="1725480" y="5951520"/>
            <a:ext cx="428004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3" name="Group 61" descr=""/>
          <p:cNvPicPr/>
          <p:nvPr/>
        </p:nvPicPr>
        <p:blipFill>
          <a:blip r:embed="rId1"/>
          <a:stretch/>
        </p:blipFill>
        <p:spPr>
          <a:xfrm>
            <a:off x="360360" y="1365120"/>
            <a:ext cx="2992320" cy="4614840"/>
          </a:xfrm>
          <a:prstGeom prst="rect">
            <a:avLst/>
          </a:prstGeom>
          <a:ln w="0">
            <a:noFill/>
          </a:ln>
        </p:spPr>
      </p:pic>
      <p:sp>
        <p:nvSpPr>
          <p:cNvPr id="824" name="TextBox 11"/>
          <p:cNvSpPr/>
          <p:nvPr/>
        </p:nvSpPr>
        <p:spPr>
          <a:xfrm>
            <a:off x="3495600" y="1668600"/>
            <a:ext cx="6116760" cy="47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Creates a solid foundation for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patient safety standards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future IT/IS developments et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Patient-engagement is essential—putting patients at the core of all activities and shared decision-mak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Involves active engagement of healthcare workforce—assists with a positive ‘safety culture’—the right culture provides an environment for safety to flouris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Enhances innovation at the clinical level supported by DHB Regional leadershi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Builds understanding &amp; consensus at micro- &amp; meso- system levels: ‘whole of Midland Region’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Achieves ‘better outcomes’ for our patients!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rebuchet MS"/>
                <a:ea typeface="Trebuchet MS"/>
              </a:rPr>
              <a:t>Enables us to test the approach through our ownership interests before working with our diverse communities to ‘implement’ the approach ‘closer to home’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12"/>
          <p:cNvSpPr/>
          <p:nvPr/>
        </p:nvSpPr>
        <p:spPr>
          <a:xfrm>
            <a:off x="2697120" y="1203480"/>
            <a:ext cx="679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bcaad"/>
                </a:solidFill>
                <a:latin typeface="Arial"/>
                <a:ea typeface="Arial"/>
              </a:rPr>
              <a:t>The Midland Quality &amp; Patient Collaborative Strateg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75960" y="-222120"/>
            <a:ext cx="8420040" cy="13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Tw Cen MT"/>
              </a:rPr>
              <a:t>THUMBS UP FOR THE MIDLAND REG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Oval 24"/>
          <p:cNvSpPr/>
          <p:nvPr/>
        </p:nvSpPr>
        <p:spPr>
          <a:xfrm>
            <a:off x="2813040" y="5951520"/>
            <a:ext cx="428004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8" name="Group 23" descr=""/>
          <p:cNvPicPr/>
          <p:nvPr/>
        </p:nvPicPr>
        <p:blipFill>
          <a:blip r:embed="rId1"/>
          <a:stretch/>
        </p:blipFill>
        <p:spPr>
          <a:xfrm>
            <a:off x="3200400" y="847800"/>
            <a:ext cx="2998800" cy="461484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31"/>
          <p:cNvGrpSpPr/>
          <p:nvPr/>
        </p:nvGrpSpPr>
        <p:grpSpPr>
          <a:xfrm>
            <a:off x="2851200" y="2235240"/>
            <a:ext cx="1332000" cy="838080"/>
            <a:chOff x="2851200" y="2235240"/>
            <a:chExt cx="1332000" cy="838080"/>
          </a:xfrm>
        </p:grpSpPr>
        <p:sp>
          <p:nvSpPr>
            <p:cNvPr id="830" name="Straight Connector 28"/>
            <p:cNvSpPr/>
            <p:nvPr/>
          </p:nvSpPr>
          <p:spPr>
            <a:xfrm>
              <a:off x="2851200" y="2235240"/>
              <a:ext cx="831960" cy="0"/>
            </a:xfrm>
            <a:prstGeom prst="line">
              <a:avLst/>
            </a:prstGeom>
            <a:ln w="28440">
              <a:solidFill>
                <a:srgbClr val="2fa3ee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1" name="Straight Connector 30"/>
            <p:cNvSpPr/>
            <p:nvPr/>
          </p:nvSpPr>
          <p:spPr>
            <a:xfrm>
              <a:off x="3675240" y="2235240"/>
              <a:ext cx="507960" cy="838080"/>
            </a:xfrm>
            <a:prstGeom prst="line">
              <a:avLst/>
            </a:prstGeom>
            <a:ln w="2844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32" name="Group 33"/>
          <p:cNvGrpSpPr/>
          <p:nvPr/>
        </p:nvGrpSpPr>
        <p:grpSpPr>
          <a:xfrm>
            <a:off x="5722920" y="2235240"/>
            <a:ext cx="1332000" cy="838080"/>
            <a:chOff x="5722920" y="2235240"/>
            <a:chExt cx="1332000" cy="838080"/>
          </a:xfrm>
        </p:grpSpPr>
        <p:sp>
          <p:nvSpPr>
            <p:cNvPr id="833" name="Straight Connector 34"/>
            <p:cNvSpPr/>
            <p:nvPr/>
          </p:nvSpPr>
          <p:spPr>
            <a:xfrm flipH="1">
              <a:off x="6222960" y="2235240"/>
              <a:ext cx="831960" cy="0"/>
            </a:xfrm>
            <a:prstGeom prst="line">
              <a:avLst/>
            </a:prstGeom>
            <a:ln w="28440">
              <a:solidFill>
                <a:srgbClr val="4bcaad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Straight Connector 35"/>
            <p:cNvSpPr/>
            <p:nvPr/>
          </p:nvSpPr>
          <p:spPr>
            <a:xfrm flipH="1">
              <a:off x="5722920" y="2235240"/>
              <a:ext cx="507960" cy="838080"/>
            </a:xfrm>
            <a:prstGeom prst="line">
              <a:avLst/>
            </a:prstGeom>
            <a:ln w="28440">
              <a:solidFill>
                <a:srgbClr val="4bca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35" name="Group 36"/>
          <p:cNvGrpSpPr/>
          <p:nvPr/>
        </p:nvGrpSpPr>
        <p:grpSpPr>
          <a:xfrm>
            <a:off x="2851200" y="5143680"/>
            <a:ext cx="1332000" cy="838080"/>
            <a:chOff x="2851200" y="5143680"/>
            <a:chExt cx="1332000" cy="838080"/>
          </a:xfrm>
        </p:grpSpPr>
        <p:sp>
          <p:nvSpPr>
            <p:cNvPr id="836" name="Straight Connector 37"/>
            <p:cNvSpPr/>
            <p:nvPr/>
          </p:nvSpPr>
          <p:spPr>
            <a:xfrm>
              <a:off x="2851200" y="5981760"/>
              <a:ext cx="831960" cy="0"/>
            </a:xfrm>
            <a:prstGeom prst="line">
              <a:avLst/>
            </a:prstGeom>
            <a:ln w="28440">
              <a:solidFill>
                <a:srgbClr val="d99c3f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Straight Connector 38"/>
            <p:cNvSpPr/>
            <p:nvPr/>
          </p:nvSpPr>
          <p:spPr>
            <a:xfrm flipV="1">
              <a:off x="3675240" y="5143680"/>
              <a:ext cx="507960" cy="838080"/>
            </a:xfrm>
            <a:prstGeom prst="line">
              <a:avLst/>
            </a:prstGeom>
            <a:ln w="28440">
              <a:solidFill>
                <a:srgbClr val="d99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38" name="Group 39"/>
          <p:cNvGrpSpPr/>
          <p:nvPr/>
        </p:nvGrpSpPr>
        <p:grpSpPr>
          <a:xfrm>
            <a:off x="5722920" y="5143680"/>
            <a:ext cx="1332000" cy="838080"/>
            <a:chOff x="5722920" y="5143680"/>
            <a:chExt cx="1332000" cy="838080"/>
          </a:xfrm>
        </p:grpSpPr>
        <p:sp>
          <p:nvSpPr>
            <p:cNvPr id="839" name="Straight Connector 40"/>
            <p:cNvSpPr/>
            <p:nvPr/>
          </p:nvSpPr>
          <p:spPr>
            <a:xfrm flipH="1">
              <a:off x="6222960" y="5981760"/>
              <a:ext cx="831960" cy="0"/>
            </a:xfrm>
            <a:prstGeom prst="line">
              <a:avLst/>
            </a:prstGeom>
            <a:ln w="28440">
              <a:solidFill>
                <a:srgbClr val="86c157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Straight Connector 41"/>
            <p:cNvSpPr/>
            <p:nvPr/>
          </p:nvSpPr>
          <p:spPr>
            <a:xfrm flipH="1" flipV="1">
              <a:off x="5722920" y="5143680"/>
              <a:ext cx="507960" cy="838080"/>
            </a:xfrm>
            <a:prstGeom prst="line">
              <a:avLst/>
            </a:prstGeom>
            <a:ln w="28440">
              <a:solidFill>
                <a:srgbClr val="86c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41" name="TextBox 46"/>
          <p:cNvSpPr/>
          <p:nvPr/>
        </p:nvSpPr>
        <p:spPr>
          <a:xfrm>
            <a:off x="6230880" y="4782960"/>
            <a:ext cx="307836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&gt;15% of hospital $ due to treating safety failur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Opportunity cost to patients &amp; society (lost capacity &amp; productivit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Cost of safety failure includes loss of trust in the health system/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TextBox 47"/>
          <p:cNvSpPr/>
          <p:nvPr/>
        </p:nvSpPr>
        <p:spPr>
          <a:xfrm>
            <a:off x="65160" y="1104840"/>
            <a:ext cx="416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2fa3ee"/>
                </a:solidFill>
                <a:latin typeface="Arial"/>
                <a:ea typeface="Arial"/>
              </a:rPr>
              <a:t>Greater investment is justified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TextBox 53"/>
          <p:cNvSpPr/>
          <p:nvPr/>
        </p:nvSpPr>
        <p:spPr>
          <a:xfrm>
            <a:off x="6164280" y="1365120"/>
            <a:ext cx="355284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Creates a solid foundation for patient safety standards, future IT/IS developments etc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Involves active engagement of healthcare workforce and patients—positive ‘safety culture’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Enhances innovation at the clinical level supported by DHB leadership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Builds understanding &amp; consensus at micro- &amp; meso-system levels and ‘whole of reg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TextBox 54"/>
          <p:cNvSpPr/>
          <p:nvPr/>
        </p:nvSpPr>
        <p:spPr>
          <a:xfrm>
            <a:off x="5638680" y="644400"/>
            <a:ext cx="395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bcaad"/>
                </a:solidFill>
                <a:latin typeface="Arial"/>
                <a:ea typeface="Arial"/>
              </a:rPr>
              <a:t>Midland Quality &amp; Patient Safety Collaborative Strateg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TextBox 56"/>
          <p:cNvSpPr/>
          <p:nvPr/>
        </p:nvSpPr>
        <p:spPr>
          <a:xfrm>
            <a:off x="173160" y="1646280"/>
            <a:ext cx="30207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Many ADEs able to be ‘systematically prevented </a:t>
            </a:r>
            <a:r>
              <a:rPr b="0" lang="mr-IN" sz="16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standardised policies &amp; procedur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Leverages off the existing investment in the HQSC work programme but supports local opportunities for chang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TextBox 57"/>
          <p:cNvSpPr/>
          <p:nvPr/>
        </p:nvSpPr>
        <p:spPr>
          <a:xfrm>
            <a:off x="5340240" y="4373640"/>
            <a:ext cx="455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70c12a"/>
                </a:solidFill>
                <a:latin typeface="Arial"/>
                <a:ea typeface="Arial"/>
              </a:rPr>
              <a:t>Cost to patients/</a:t>
            </a:r>
            <a:r>
              <a:rPr b="0" lang="en-IN" sz="2200" spc="-1" strike="noStrike">
                <a:solidFill>
                  <a:srgbClr val="70c12a"/>
                </a:solidFill>
                <a:latin typeface="Trebuchet MS"/>
                <a:ea typeface="Trebuchet MS"/>
              </a:rPr>
              <a:t>DHBs</a:t>
            </a:r>
            <a:r>
              <a:rPr b="0" lang="en-IN" sz="2200" spc="-1" strike="noStrike">
                <a:solidFill>
                  <a:srgbClr val="70c12a"/>
                </a:solidFill>
                <a:latin typeface="Arial"/>
                <a:ea typeface="Arial"/>
              </a:rPr>
              <a:t> is hig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65160" y="4782960"/>
            <a:ext cx="312876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Most common include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Healthcare Associated Infections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Venous thromboembolis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Pressure ulcer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Medication erro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rebuchet MS"/>
                <a:ea typeface="Trebuchet MS"/>
              </a:rPr>
              <a:t>Wrong or delayed diagnosi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65160" y="3675240"/>
            <a:ext cx="30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d99c3f"/>
                </a:solidFill>
                <a:latin typeface="Arial"/>
              </a:rPr>
              <a:t>Most of the burden associated with a few adverse ev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1015920" y="0"/>
            <a:ext cx="78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9760" y="504360"/>
            <a:ext cx="771372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w Cen MT"/>
              </a:rPr>
              <a:t>CLINICAL SERVICES AREAS (CSA) VS QUALITY DIMENSIONS (QD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222120" y="887400"/>
            <a:ext cx="9261720" cy="5810400"/>
          </a:xfrm>
          <a:prstGeom prst="rect">
            <a:avLst/>
          </a:prstGeom>
          <a:ln w="0">
            <a:noFill/>
          </a:ln>
        </p:spPr>
      </p:pic>
      <p:sp>
        <p:nvSpPr>
          <p:cNvPr id="852" name="TextBox 2"/>
          <p:cNvSpPr/>
          <p:nvPr/>
        </p:nvSpPr>
        <p:spPr>
          <a:xfrm>
            <a:off x="1863720" y="1922400"/>
            <a:ext cx="7245360" cy="497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What measures (quantitative &amp; qualitative) for each of the CSAs address these QDs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Would using this matrix standardise our approach in terms of our expected achieve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Would a quality focus enable us to develop a set of common performance metrics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Should we report against both quantitative and qualitative metrics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Would this reflect our ‘Health System Approach’ and would it be able to be ‘cascaded’ to a CSA / hospital framework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Would adopting this method also enable/include each DHB’s community &amp; primary sectors once the utility of the tool is established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  <a:ea typeface="Arial"/>
              </a:rPr>
              <a:t>Would it be possible to include the ‘non-health system Determinants of Health’ in the future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6280" y="433080"/>
            <a:ext cx="8420040" cy="19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NZ" sz="4000" spc="-1" strike="noStrike">
                <a:solidFill>
                  <a:srgbClr val="000000"/>
                </a:solidFill>
                <a:latin typeface="Tw Cen MT"/>
              </a:rPr>
              <a:t>GOAL</a:t>
            </a:r>
            <a:r>
              <a:rPr b="0" lang="en-NZ" sz="3600" spc="-1" strike="noStrike">
                <a:solidFill>
                  <a:srgbClr val="000000"/>
                </a:solidFill>
                <a:latin typeface="Tw Cen MT"/>
              </a:rPr>
              <a:t> IS BETTER POPULATION HEALTH OUTCOMES…</a:t>
            </a:r>
            <a:r>
              <a:rPr b="0" i="1" lang="en-NZ" sz="3600" spc="-1" strike="noStrike">
                <a:solidFill>
                  <a:srgbClr val="000000"/>
                </a:solidFill>
                <a:latin typeface="Tw Cen MT"/>
              </a:rPr>
              <a:t>MEASURING SUCCESS </a:t>
            </a:r>
            <a:r>
              <a:rPr b="1" i="1" lang="en-NZ" sz="3600" spc="-1" strike="noStrike">
                <a:solidFill>
                  <a:srgbClr val="000000"/>
                </a:solidFill>
                <a:latin typeface="Tw Cen MT"/>
              </a:rPr>
              <a:t>INVOLVES THE CONTINU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166680" y="1746360"/>
            <a:ext cx="9570960" cy="4262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3" descr=""/>
          <p:cNvPicPr/>
          <p:nvPr/>
        </p:nvPicPr>
        <p:blipFill>
          <a:blip r:embed="rId2"/>
          <a:stretch/>
        </p:blipFill>
        <p:spPr>
          <a:xfrm>
            <a:off x="1936800" y="4344840"/>
            <a:ext cx="1508040" cy="9320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4" descr=""/>
          <p:cNvPicPr/>
          <p:nvPr/>
        </p:nvPicPr>
        <p:blipFill>
          <a:blip r:embed="rId3"/>
          <a:stretch/>
        </p:blipFill>
        <p:spPr>
          <a:xfrm>
            <a:off x="3743280" y="4344840"/>
            <a:ext cx="1832040" cy="93204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5" descr=""/>
          <p:cNvPicPr/>
          <p:nvPr/>
        </p:nvPicPr>
        <p:blipFill>
          <a:blip r:embed="rId4"/>
          <a:stretch/>
        </p:blipFill>
        <p:spPr>
          <a:xfrm>
            <a:off x="5945040" y="4344840"/>
            <a:ext cx="1832040" cy="9320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" descr=""/>
          <p:cNvPicPr/>
          <p:nvPr/>
        </p:nvPicPr>
        <p:blipFill>
          <a:blip r:embed="rId5"/>
          <a:stretch/>
        </p:blipFill>
        <p:spPr>
          <a:xfrm>
            <a:off x="1986120" y="5437080"/>
            <a:ext cx="5790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831680" y="0"/>
            <a:ext cx="651492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w Cen MT"/>
              </a:rPr>
              <a:t>WHAT DOES THE 2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NZ" sz="3200" spc="-1" strike="noStrike">
                <a:solidFill>
                  <a:srgbClr val="000000"/>
                </a:solidFill>
                <a:latin typeface="Tw Cen MT"/>
              </a:rPr>
              <a:t> CENTURY HEALTH SYSTEM MEAN BY QUALITY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914280" y="103176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rebuchet MS"/>
              </a:rPr>
              <a:t>10 SIMPLE RULE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CARE IS BASED ON CONTINUOUS HEALTH RELATIONSHIP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CARE IS CUSTOMISED ACCORDING TO PATIENT NEEDS AND VALU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THE PATIENT IS THE SOURCE OF CONTROL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KNOWLEDGE IS SHARED AND INFORMATION FLOWS FREEL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DECISION-MAKING IS EVIDENCE-BASE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SAFETY IS A ‘SYSTEM’ PROPERT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TRANSPARENCY IS A GIVEN NECESSIT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NEEDS ARE ‘ANTICIPATED’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WASTE IS CONTINUOUSLY DECREASE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rebuchet MS"/>
              </a:rPr>
              <a:t>COOPERATION AMONGST ALL CLINICIANS IS A PRIORITY!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40760" y="1606320"/>
            <a:ext cx="3692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2000 – PUBLICATION OF</a:t>
            </a:r>
            <a:r>
              <a:rPr b="1" i="1" lang="en-NZ" sz="1500" spc="-1" strike="noStrike">
                <a:solidFill>
                  <a:srgbClr val="000000"/>
                </a:solidFill>
                <a:latin typeface="Tw Cen MT"/>
              </a:rPr>
              <a:t> ‘TO ERR IS HUMAN – BUILDING A SAFER HEALTH SYSTEM’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IDENTIFIED THAT ERRORS IN HEALTHCARE DELIVERY LED TO PREVENTABLE DEATHS/INJURY:  CATEGORIES -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DIAGNOSTIC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TREATMENT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PREVENTATIV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COMMUNICATION/EQUIPMENT/SYSTEM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2001 – PUBLICATION OF </a:t>
            </a:r>
            <a:r>
              <a:rPr b="1" i="1" lang="en-NZ" sz="1500" spc="-1" strike="noStrike">
                <a:solidFill>
                  <a:srgbClr val="000000"/>
                </a:solidFill>
                <a:latin typeface="Tw Cen MT"/>
              </a:rPr>
              <a:t>‘CROSSING THE QUALITY CHASM: A NEW HEALTH SYSTEM FOR THE 21</a:t>
            </a:r>
            <a:r>
              <a:rPr b="1" i="1" lang="en-NZ" sz="15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1" i="1" lang="en-NZ" sz="1500" spc="-1" strike="noStrike">
                <a:solidFill>
                  <a:srgbClr val="000000"/>
                </a:solidFill>
                <a:latin typeface="Tw Cen MT"/>
              </a:rPr>
              <a:t> CENTURY’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IDENTIFIED 10 ‘SIMPLE RULES’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Tw Cen MT"/>
              </a:rPr>
              <a:t>HEALTH SYSTEM = COMPLEX ADAPTIVE I.E. MACRO-MESO- &amp; MICRO-LEVEL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898280" y="151920"/>
            <a:ext cx="7264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w Cen MT"/>
              </a:rPr>
              <a:t>2017 – DO WE HAVE THE HEALTH SYSTEM ENVISAGED IN 2001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210600" y="1347480"/>
            <a:ext cx="4208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A ‘QUALITY’ FOCUS MUST BE ON THE ‘WHOLE OF THE SYSTEM’  TO DELIVER THE NZ HEALTH STRATEGY 2017 GOALS – THE CENTRAL BLACK CIRCLE !!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GOAL FOR DHBS – BETTER HEALTH OUTCOME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TO CONTINUALLY REDUCE THE BURDEN OF ILLNESS, INJURY &amp; DISABILITY IN OUR POPULAT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TO CONTINUALLY IMPROVE THE HEALTH &amp; FUNCTIONS OF ALL OF OUR PEOPLE PARTICULARLY MAORI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TO DO THIS AS EFFICIENTLY AS POSSIBL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224240" y="1212840"/>
            <a:ext cx="562140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609480"/>
            <a:ext cx="3494160" cy="20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w Cen MT"/>
              </a:rPr>
              <a:t>THE COMPONENTS OF OUR ‘COLLABORATIVE QUADRUPLE AIM’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52080" y="2631960"/>
            <a:ext cx="390348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w Cen MT"/>
              </a:rPr>
              <a:t>BETTER PATIENT EXPERIENCE OF CA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w Cen MT"/>
              </a:rPr>
              <a:t>BETTER HEALTH FOR THE NZ POPUL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w Cen MT"/>
              </a:rPr>
              <a:t>BETTER VALU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w Cen MT"/>
              </a:rPr>
              <a:t>A CAPABLE HEALTHCARE WORKFORC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4516560" y="609480"/>
            <a:ext cx="42559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22000" y="1300320"/>
            <a:ext cx="7061400" cy="42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Tw Cen MT"/>
              </a:rPr>
              <a:t>HEALTH SYSTEM PERFORMANCE ENCOMPASSES ‘QUALITY’ AND POPULATION ACTIVITIES ORGANISED AROUND NEED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4" descr=""/>
          <p:cNvPicPr/>
          <p:nvPr/>
        </p:nvPicPr>
        <p:blipFill>
          <a:blip r:embed="rId1"/>
          <a:stretch/>
        </p:blipFill>
        <p:spPr>
          <a:xfrm>
            <a:off x="387360" y="155520"/>
            <a:ext cx="903780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42680" y="112320"/>
            <a:ext cx="84200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w Cen MT"/>
              </a:rPr>
              <a:t>DHB FOCUS &amp; ATTEN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1"/>
          <a:stretch/>
        </p:blipFill>
        <p:spPr>
          <a:xfrm>
            <a:off x="398520" y="1014480"/>
            <a:ext cx="82929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42680" y="163440"/>
            <a:ext cx="84200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w Cen MT"/>
              </a:rPr>
              <a:t>QUESTIONS THAT BOARDS NEED TO ASK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235080" y="1101600"/>
            <a:ext cx="949464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ARE WE (OUR BOARD) LEADING AND SETTING CLEAR GOALS TO IMPROVE QUALITY &amp; SAFETY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IS PROGRESS TOWARD SAFER CARE A PART OF EVERY AGENDA ITEM WE CONSIDER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ARE WE REMINDING OURSELVES THAT HARM HAPPENS TO PEOPLE WHO ARE UNDER OUR OVERSIGHT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HAVE WE IDENTIFIED AND AGREED ‘ORGANISATION-WIDE’ MEASURES OF PATIENT SAFETY AND IS PROGRESS REPORTED ‘TRANSPARENT’ TO EVERYONE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HAVE WE SUPPORTED AND LED AN ENVIRONMENT OF CARE THAT IS RESPECTFUL, FAIR AND JUST FOR THOSE WHO EXPERIENCE PAIN AND LOSS AS A RESULT OF AVOIDABLE OR PREVENTABLE HARM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HAVE WE MEMBERSHIP THAT CHAMPIONS QUALITY AND SAFE CARE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ARE WE DEVELOPING OUR OWN CAPABILITY AND KNOWLEDGE IN TERMS OF QUALITY AND SAFETY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HAVE WE SUPPORTED, THROUGH OUR STRATEGIC LEADERSHIP AND DIRECTION, BETTER OUTCOMES FOR PATIENTS THROUGH AN ENGAGED AND COOPERATIVE AND JUST CULTURE OF QUALITY AND SAFETY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11080" y="210960"/>
            <a:ext cx="745164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w Cen MT"/>
              </a:rPr>
              <a:t>TOP 10 PATIENT QUALITY &amp;SAFETY CONCERNS*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42680" y="1243080"/>
            <a:ext cx="84200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INFORMATION MANAGEMENT IN EHRS </a:t>
            </a:r>
            <a:r>
              <a:rPr b="0" lang="en-NZ" sz="1900" spc="-1" strike="noStrike">
                <a:solidFill>
                  <a:srgbClr val="000000"/>
                </a:solidFill>
                <a:latin typeface="Arial Narrow"/>
              </a:rPr>
              <a:t>[Electronic Health record systems]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UNRECOGNISED PATIENT DETERIORA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IMPLEMENTATION AND USE OF CLINICAL DECISION SUPPOR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TEST RESULT REPORTING AND FOLLOW-U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ANTIMICROBIAL STEWARDSH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PATIENT IDENTIFICA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OPIOID ADMINISTRATION AND MONITORING IN ACUTE CA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BEHAVIOURAL HEALTH ISSUES IN NON-BEHAVIOURAL-HEALTH SETTING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MANAGEMENT OF NEW ORAL ANTICOAGULAN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w Cen MT"/>
              </a:rPr>
              <a:t>INADEQUATE ORGANISATION SYSTEMS OR PROCESSES TO IMPROVE SAFETY AND QUALITY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TextBox 3"/>
          <p:cNvSpPr/>
          <p:nvPr/>
        </p:nvSpPr>
        <p:spPr>
          <a:xfrm>
            <a:off x="743040" y="5943600"/>
            <a:ext cx="8084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* ECRI Institute Report Mar 2017: </a:t>
            </a:r>
            <a:r>
              <a:rPr b="0" lang="en-NZ" sz="1800" spc="-1" strike="noStrike" u="sng">
                <a:solidFill>
                  <a:srgbClr val="56bcfe"/>
                </a:solidFill>
                <a:uFillTx/>
                <a:latin typeface="Tw Cen MT"/>
                <a:hlinkClick r:id="rId1"/>
              </a:rPr>
              <a:t>https://</a:t>
            </a:r>
            <a:r>
              <a:rPr b="0" lang="en-NZ" sz="1800" spc="-1" strike="noStrike" u="sng">
                <a:solidFill>
                  <a:srgbClr val="56bcfe"/>
                </a:solidFill>
                <a:uFillTx/>
                <a:latin typeface="Tw Cen MT"/>
                <a:hlinkClick r:id="rId2"/>
              </a:rPr>
              <a:t>www.ecri.org/Pages/default.aspx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3T21:32:18Z</dcterms:created>
  <dc:creator>DR Sharon Kletchko</dc:creator>
  <dc:description/>
  <dc:language>en-US</dc:language>
  <cp:lastModifiedBy>Sharon Kletchko</cp:lastModifiedBy>
  <cp:lastPrinted>2017-03-27T20:42:06Z</cp:lastPrinted>
  <dcterms:modified xsi:type="dcterms:W3CDTF">2017-04-02T23:14:43Z</dcterms:modified>
  <cp:revision>53</cp:revision>
  <dc:subject/>
  <dc:title>Midland Regional quality governance net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