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280" y="361764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80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100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008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28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100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008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180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280" y="361764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180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100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3008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28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4100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3008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80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120" y="495360"/>
            <a:ext cx="4343400" cy="21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dland DHBs Board Develop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9080" y="5163840"/>
            <a:ext cx="4343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April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614840" y="2925720"/>
            <a:ext cx="4413240" cy="31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Midland logo.jpg"/>
          <p:cNvPicPr/>
          <p:nvPr/>
        </p:nvPicPr>
        <p:blipFill>
          <a:blip r:embed="rId1"/>
          <a:stretch/>
        </p:blipFill>
        <p:spPr>
          <a:xfrm>
            <a:off x="4732200" y="449280"/>
            <a:ext cx="3962520" cy="1365120"/>
          </a:xfrm>
          <a:prstGeom prst="rect">
            <a:avLst/>
          </a:prstGeom>
          <a:ln w="0">
            <a:noFill/>
          </a:ln>
        </p:spPr>
      </p:pic>
      <p:sp>
        <p:nvSpPr>
          <p:cNvPr id="80" name="Title 1"/>
          <p:cNvSpPr/>
          <p:nvPr/>
        </p:nvSpPr>
        <p:spPr>
          <a:xfrm>
            <a:off x="77760" y="3181320"/>
            <a:ext cx="4343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ternal Aud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udit &amp; Assurance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1" descr="Healthshcol"/>
          <p:cNvPicPr/>
          <p:nvPr/>
        </p:nvPicPr>
        <p:blipFill>
          <a:blip r:embed="rId2"/>
          <a:stretch/>
        </p:blipFill>
        <p:spPr>
          <a:xfrm>
            <a:off x="5097600" y="4317840"/>
            <a:ext cx="3639960" cy="153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ealthShare frond.bmp"/>
          <p:cNvPicPr/>
          <p:nvPr/>
        </p:nvPicPr>
        <p:blipFill>
          <a:blip r:embed="rId3">
            <a:lum bright="82000"/>
          </a:blip>
          <a:srcRect l="0" t="0" r="26375" b="34266"/>
          <a:stretch/>
        </p:blipFill>
        <p:spPr>
          <a:xfrm>
            <a:off x="5146560" y="2130480"/>
            <a:ext cx="35053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s with DHB Board Sub-committ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0880" y="1064880"/>
            <a:ext cx="76708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DHB Audit Committees lin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nternal Audit updates against the internal audi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nternal audi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erform ad-hoc assignments requested by th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One-on-one discussions with External Auditors and Board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udit and Assurance updates on delivery and performance against the annual audi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HB Strategy / Planning and Funding reports on any issues or high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Midland logo.jpg"/>
          <p:cNvPicPr/>
          <p:nvPr/>
        </p:nvPicPr>
        <p:blipFill>
          <a:blip r:embed="rId1"/>
          <a:stretch/>
        </p:blipFill>
        <p:spPr>
          <a:xfrm>
            <a:off x="88920" y="5603760"/>
            <a:ext cx="1635120" cy="546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58"/>
          <p:cNvSpPr/>
          <p:nvPr/>
        </p:nvSpPr>
        <p:spPr>
          <a:xfrm>
            <a:off x="0" y="1258920"/>
            <a:ext cx="8742240" cy="45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stb.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2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de nova</a:t>
            </a:r>
            <a:r>
              <a:rPr b="0" i="1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5 DHBs                     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- NGO contracts                                                                                                                              </a:t>
            </a:r>
            <a:r>
              <a:rPr b="1" i="1" lang="en-US" sz="1600" spc="-1" strike="noStrike">
                <a:solidFill>
                  <a:srgbClr val="002060"/>
                </a:solidFill>
                <a:latin typeface="Calibri"/>
              </a:rPr>
              <a:t>Au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Compliance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Service pro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- Risk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i="1" lang="en-US" sz="1600" spc="-1" strike="noStrike">
                <a:solidFill>
                  <a:srgbClr val="002060"/>
                </a:solidFill>
                <a:latin typeface="Calibri"/>
              </a:rPr>
              <a:t>Provider support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1.2m -&gt; $0.8m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c11"/>
                </a:solidFill>
                <a:latin typeface="Calibri"/>
              </a:rPr>
              <a:t>Crown D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1e1c11"/>
                </a:solidFill>
                <a:latin typeface="Calibri"/>
              </a:rPr>
              <a:t>JASANZ 4Yr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2341440" y="914400"/>
            <a:ext cx="477216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Performance auditing – Futur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597640" y="930240"/>
            <a:ext cx="3173400" cy="4417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326880" y="1517760"/>
            <a:ext cx="5238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Findings (composi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Purchase of shot guns/nike gym sh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Incorrect/different service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FTE mis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Governance fail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Low level Quality system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Initiatives -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He Rite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Health &amp;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Multi-agency au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elivering contracts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improving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Focus on activity output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Focus on DHB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ulti-agency 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Low trust contract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high trust supplier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Interactive Activ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1920" y="990720"/>
            <a:ext cx="820764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Presentation 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61800" y="120312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Arial"/>
              </a:rPr>
              <a:t>Who is Internal Au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Arial"/>
              </a:rPr>
              <a:t>Who is Audit and Assu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Arial"/>
              </a:rPr>
              <a:t>Links with DHB Board Sub-commit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Arial"/>
              </a:rPr>
              <a:t>Interactive Activity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Image result for challenge icon"/>
          <p:cNvPicPr/>
          <p:nvPr/>
        </p:nvPicPr>
        <p:blipFill>
          <a:blip r:embed="rId1"/>
          <a:stretch/>
        </p:blipFill>
        <p:spPr>
          <a:xfrm>
            <a:off x="628560" y="5095800"/>
            <a:ext cx="633600" cy="63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http://s3.media.squarespace.com/production/467161/5278253/wp-content/uploads/2008/11/say-who-icon.png"/>
          <p:cNvPicPr/>
          <p:nvPr/>
        </p:nvPicPr>
        <p:blipFill>
          <a:blip r:embed="rId2"/>
          <a:stretch/>
        </p:blipFill>
        <p:spPr>
          <a:xfrm>
            <a:off x="560520" y="1219320"/>
            <a:ext cx="701640" cy="66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http://s3.media.squarespace.com/production/467161/5278253/wp-content/uploads/2008/11/say-who-icon.png"/>
          <p:cNvPicPr/>
          <p:nvPr/>
        </p:nvPicPr>
        <p:blipFill>
          <a:blip r:embed="rId3"/>
          <a:stretch/>
        </p:blipFill>
        <p:spPr>
          <a:xfrm>
            <a:off x="596880" y="2335320"/>
            <a:ext cx="701640" cy="669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8"/>
          <p:cNvGrpSpPr/>
          <p:nvPr/>
        </p:nvGrpSpPr>
        <p:grpSpPr>
          <a:xfrm>
            <a:off x="585000" y="3632040"/>
            <a:ext cx="630360" cy="1004040"/>
            <a:chOff x="585000" y="3632040"/>
            <a:chExt cx="630360" cy="1004040"/>
          </a:xfrm>
        </p:grpSpPr>
        <p:sp>
          <p:nvSpPr>
            <p:cNvPr id="89" name="Action Button: Help 9"/>
            <p:cNvSpPr/>
            <p:nvPr/>
          </p:nvSpPr>
          <p:spPr>
            <a:xfrm>
              <a:off x="668520" y="3632040"/>
              <a:ext cx="446760" cy="657000"/>
            </a:xfrm>
            <a:custGeom>
              <a:avLst/>
              <a:gdLst>
                <a:gd name="textAreaLeft" fmla="*/ 28800 w 446760"/>
                <a:gd name="textAreaRight" fmla="*/ 417960 w 446760"/>
                <a:gd name="textAreaTop" fmla="*/ 28800 h 657000"/>
                <a:gd name="textAreaBottom" fmla="*/ 628200 h 657000"/>
              </a:gdLst>
              <a:ahLst/>
              <a:rect l="textAreaLeft" t="textAreaTop" r="textAreaRight" b="textAreaBottom"/>
              <a:pathLst>
                <a:path w="21600" h="31757">
                  <a:moveTo>
                    <a:pt x="0" y="0"/>
                  </a:moveTo>
                  <a:lnTo>
                    <a:pt x="21600" y="0"/>
                  </a:lnTo>
                  <a:lnTo>
                    <a:pt x="21600" y="31757"/>
                  </a:lnTo>
                  <a:lnTo>
                    <a:pt x="0" y="31757"/>
                  </a:lnTo>
                  <a:close/>
                </a:path>
                <a:path fill="lightenLess" w="21600" h="3175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1757">
                  <a:moveTo>
                    <a:pt x="21600" y="0"/>
                  </a:moveTo>
                  <a:lnTo>
                    <a:pt x="21600" y="31757"/>
                  </a:lnTo>
                  <a:lnTo>
                    <a:pt x="20200" y="30357"/>
                  </a:lnTo>
                  <a:lnTo>
                    <a:pt x="20200" y="1400"/>
                  </a:lnTo>
                  <a:close/>
                </a:path>
                <a:path fill="darkenLess" w="21600" h="31757">
                  <a:moveTo>
                    <a:pt x="21600" y="31757"/>
                  </a:moveTo>
                  <a:lnTo>
                    <a:pt x="0" y="31757"/>
                  </a:lnTo>
                  <a:lnTo>
                    <a:pt x="1400" y="30357"/>
                  </a:lnTo>
                  <a:lnTo>
                    <a:pt x="20200" y="30357"/>
                  </a:lnTo>
                  <a:close/>
                </a:path>
                <a:path fill="lighten" w="21600" h="31757">
                  <a:moveTo>
                    <a:pt x="0" y="3175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30357"/>
                  </a:lnTo>
                  <a:close/>
                </a:path>
                <a:path fill="darken" w="21600" h="31757">
                  <a:moveTo>
                    <a:pt x="10800" y="19882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31757">
                  <a:moveTo>
                    <a:pt x="11905" y="19360"/>
                  </a:moveTo>
                  <a:lnTo>
                    <a:pt x="11905" y="17401"/>
                  </a:lnTo>
                  <a:cubicBezTo>
                    <a:pt x="11905" y="16575"/>
                    <a:pt x="12236" y="15878"/>
                    <a:pt x="12837" y="15878"/>
                  </a:cubicBezTo>
                  <a:cubicBezTo>
                    <a:pt x="13968" y="15878"/>
                    <a:pt x="14865" y="14512"/>
                    <a:pt x="14865" y="12928"/>
                  </a:cubicBezTo>
                  <a:cubicBezTo>
                    <a:pt x="14865" y="10613"/>
                    <a:pt x="13011" y="8872"/>
                    <a:pt x="10800" y="8872"/>
                  </a:cubicBezTo>
                  <a:cubicBezTo>
                    <a:pt x="8589" y="8872"/>
                    <a:pt x="6918" y="10613"/>
                    <a:pt x="6918" y="12928"/>
                  </a:cubicBezTo>
                  <a:lnTo>
                    <a:pt x="8772" y="12928"/>
                  </a:lnTo>
                  <a:cubicBezTo>
                    <a:pt x="8772" y="11788"/>
                    <a:pt x="9695" y="10900"/>
                    <a:pt x="10800" y="10900"/>
                  </a:cubicBezTo>
                  <a:cubicBezTo>
                    <a:pt x="11905" y="10900"/>
                    <a:pt x="12837" y="11788"/>
                    <a:pt x="12837" y="12928"/>
                  </a:cubicBezTo>
                  <a:cubicBezTo>
                    <a:pt x="12837" y="13668"/>
                    <a:pt x="12367" y="14399"/>
                    <a:pt x="11905" y="14399"/>
                  </a:cubicBezTo>
                  <a:cubicBezTo>
                    <a:pt x="10800" y="14399"/>
                    <a:pt x="9695" y="15878"/>
                    <a:pt x="9695" y="17401"/>
                  </a:cubicBezTo>
                  <a:lnTo>
                    <a:pt x="9695" y="19360"/>
                  </a:lnTo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0"/>
            <p:cNvSpPr/>
            <p:nvPr/>
          </p:nvSpPr>
          <p:spPr>
            <a:xfrm>
              <a:off x="585000" y="429876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Calibri"/>
                </a:rPr>
                <a:t>H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Who are we? – Internal Aud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990720"/>
            <a:ext cx="82076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2060"/>
                </a:solidFill>
                <a:latin typeface="Arial"/>
              </a:rPr>
              <a:t>Midland Region Internal Audit (RIA) Service based in HS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2060"/>
                </a:solidFill>
                <a:latin typeface="Arial"/>
              </a:rPr>
              <a:t>Five auditor employees located at various DHB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2060"/>
                </a:solidFill>
                <a:latin typeface="Arial"/>
              </a:rPr>
              <a:t>Several contractors with specialist skills / capabilities and additional / flexible capacity – includes Central 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Midland logo.jpg"/>
          <p:cNvPicPr/>
          <p:nvPr/>
        </p:nvPicPr>
        <p:blipFill>
          <a:blip r:embed="rId1"/>
          <a:stretch/>
        </p:blipFill>
        <p:spPr>
          <a:xfrm>
            <a:off x="88920" y="5603760"/>
            <a:ext cx="1635120" cy="546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560" y="1677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 we wish to achieve for Midlan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58"/>
          <p:cNvSpPr/>
          <p:nvPr/>
        </p:nvSpPr>
        <p:spPr>
          <a:xfrm>
            <a:off x="1447920" y="1757520"/>
            <a:ext cx="71643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The overall role of the RIA service is to 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provide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independent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assurance 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and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consulting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 services to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support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monitor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 DHBs’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risk management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internal control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 activities that have been implemented by management to run their organis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547920" y="3808440"/>
            <a:ext cx="717120" cy="1003680"/>
            <a:chOff x="547920" y="3808440"/>
            <a:chExt cx="717120" cy="1003680"/>
          </a:xfrm>
        </p:grpSpPr>
        <p:sp>
          <p:nvSpPr>
            <p:cNvPr id="97" name="Action Button: Help 4"/>
            <p:cNvSpPr/>
            <p:nvPr/>
          </p:nvSpPr>
          <p:spPr>
            <a:xfrm>
              <a:off x="666720" y="3808440"/>
              <a:ext cx="446760" cy="657000"/>
            </a:xfrm>
            <a:custGeom>
              <a:avLst/>
              <a:gdLst>
                <a:gd name="textAreaLeft" fmla="*/ 28800 w 446760"/>
                <a:gd name="textAreaRight" fmla="*/ 417960 w 446760"/>
                <a:gd name="textAreaTop" fmla="*/ 28800 h 657000"/>
                <a:gd name="textAreaBottom" fmla="*/ 628200 h 657000"/>
              </a:gdLst>
              <a:ahLst/>
              <a:rect l="textAreaLeft" t="textAreaTop" r="textAreaRight" b="textAreaBottom"/>
              <a:pathLst>
                <a:path w="21600" h="31757">
                  <a:moveTo>
                    <a:pt x="0" y="0"/>
                  </a:moveTo>
                  <a:lnTo>
                    <a:pt x="21600" y="0"/>
                  </a:lnTo>
                  <a:lnTo>
                    <a:pt x="21600" y="31757"/>
                  </a:lnTo>
                  <a:lnTo>
                    <a:pt x="0" y="31757"/>
                  </a:lnTo>
                  <a:close/>
                </a:path>
                <a:path fill="lightenLess" w="21600" h="3175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1757">
                  <a:moveTo>
                    <a:pt x="21600" y="0"/>
                  </a:moveTo>
                  <a:lnTo>
                    <a:pt x="21600" y="31757"/>
                  </a:lnTo>
                  <a:lnTo>
                    <a:pt x="20200" y="30357"/>
                  </a:lnTo>
                  <a:lnTo>
                    <a:pt x="20200" y="1400"/>
                  </a:lnTo>
                  <a:close/>
                </a:path>
                <a:path fill="darkenLess" w="21600" h="31757">
                  <a:moveTo>
                    <a:pt x="21600" y="31757"/>
                  </a:moveTo>
                  <a:lnTo>
                    <a:pt x="0" y="31757"/>
                  </a:lnTo>
                  <a:lnTo>
                    <a:pt x="1400" y="30357"/>
                  </a:lnTo>
                  <a:lnTo>
                    <a:pt x="20200" y="30357"/>
                  </a:lnTo>
                  <a:close/>
                </a:path>
                <a:path fill="lighten" w="21600" h="31757">
                  <a:moveTo>
                    <a:pt x="0" y="3175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30357"/>
                  </a:lnTo>
                  <a:close/>
                </a:path>
                <a:path fill="darken" w="21600" h="31757">
                  <a:moveTo>
                    <a:pt x="10800" y="19882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31757">
                  <a:moveTo>
                    <a:pt x="11905" y="19360"/>
                  </a:moveTo>
                  <a:lnTo>
                    <a:pt x="11905" y="17401"/>
                  </a:lnTo>
                  <a:cubicBezTo>
                    <a:pt x="11905" y="16575"/>
                    <a:pt x="12236" y="15878"/>
                    <a:pt x="12837" y="15878"/>
                  </a:cubicBezTo>
                  <a:cubicBezTo>
                    <a:pt x="13968" y="15878"/>
                    <a:pt x="14865" y="14512"/>
                    <a:pt x="14865" y="12928"/>
                  </a:cubicBezTo>
                  <a:cubicBezTo>
                    <a:pt x="14865" y="10613"/>
                    <a:pt x="13011" y="8872"/>
                    <a:pt x="10800" y="8872"/>
                  </a:cubicBezTo>
                  <a:cubicBezTo>
                    <a:pt x="8589" y="8872"/>
                    <a:pt x="6918" y="10613"/>
                    <a:pt x="6918" y="12928"/>
                  </a:cubicBezTo>
                  <a:lnTo>
                    <a:pt x="8772" y="12928"/>
                  </a:lnTo>
                  <a:cubicBezTo>
                    <a:pt x="8772" y="11788"/>
                    <a:pt x="9695" y="10900"/>
                    <a:pt x="10800" y="10900"/>
                  </a:cubicBezTo>
                  <a:cubicBezTo>
                    <a:pt x="11905" y="10900"/>
                    <a:pt x="12837" y="11788"/>
                    <a:pt x="12837" y="12928"/>
                  </a:cubicBezTo>
                  <a:cubicBezTo>
                    <a:pt x="12837" y="13668"/>
                    <a:pt x="12367" y="14399"/>
                    <a:pt x="11905" y="14399"/>
                  </a:cubicBezTo>
                  <a:cubicBezTo>
                    <a:pt x="10800" y="14399"/>
                    <a:pt x="9695" y="15878"/>
                    <a:pt x="9695" y="17401"/>
                  </a:cubicBezTo>
                  <a:lnTo>
                    <a:pt x="9695" y="19360"/>
                  </a:lnTo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5"/>
            <p:cNvSpPr/>
            <p:nvPr/>
          </p:nvSpPr>
          <p:spPr>
            <a:xfrm>
              <a:off x="547920" y="4474800"/>
              <a:ext cx="71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Calibri"/>
                </a:rPr>
                <a:t>WH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"/>
          <p:cNvSpPr/>
          <p:nvPr/>
        </p:nvSpPr>
        <p:spPr>
          <a:xfrm>
            <a:off x="343080" y="1008000"/>
            <a:ext cx="38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ervice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08680" y="1938240"/>
            <a:ext cx="630360" cy="1004040"/>
            <a:chOff x="508680" y="1938240"/>
            <a:chExt cx="630360" cy="1004040"/>
          </a:xfrm>
        </p:grpSpPr>
        <p:sp>
          <p:nvSpPr>
            <p:cNvPr id="101" name="Action Button: Help 9"/>
            <p:cNvSpPr/>
            <p:nvPr/>
          </p:nvSpPr>
          <p:spPr>
            <a:xfrm>
              <a:off x="592200" y="1938240"/>
              <a:ext cx="446760" cy="657000"/>
            </a:xfrm>
            <a:custGeom>
              <a:avLst/>
              <a:gdLst>
                <a:gd name="textAreaLeft" fmla="*/ 28800 w 446760"/>
                <a:gd name="textAreaRight" fmla="*/ 417960 w 446760"/>
                <a:gd name="textAreaTop" fmla="*/ 28800 h 657000"/>
                <a:gd name="textAreaBottom" fmla="*/ 628200 h 657000"/>
              </a:gdLst>
              <a:ahLst/>
              <a:rect l="textAreaLeft" t="textAreaTop" r="textAreaRight" b="textAreaBottom"/>
              <a:pathLst>
                <a:path w="21600" h="31757">
                  <a:moveTo>
                    <a:pt x="0" y="0"/>
                  </a:moveTo>
                  <a:lnTo>
                    <a:pt x="21600" y="0"/>
                  </a:lnTo>
                  <a:lnTo>
                    <a:pt x="21600" y="31757"/>
                  </a:lnTo>
                  <a:lnTo>
                    <a:pt x="0" y="31757"/>
                  </a:lnTo>
                  <a:close/>
                </a:path>
                <a:path fill="lightenLess" w="21600" h="3175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1757">
                  <a:moveTo>
                    <a:pt x="21600" y="0"/>
                  </a:moveTo>
                  <a:lnTo>
                    <a:pt x="21600" y="31757"/>
                  </a:lnTo>
                  <a:lnTo>
                    <a:pt x="20200" y="30357"/>
                  </a:lnTo>
                  <a:lnTo>
                    <a:pt x="20200" y="1400"/>
                  </a:lnTo>
                  <a:close/>
                </a:path>
                <a:path fill="darkenLess" w="21600" h="31757">
                  <a:moveTo>
                    <a:pt x="21600" y="31757"/>
                  </a:moveTo>
                  <a:lnTo>
                    <a:pt x="0" y="31757"/>
                  </a:lnTo>
                  <a:lnTo>
                    <a:pt x="1400" y="30357"/>
                  </a:lnTo>
                  <a:lnTo>
                    <a:pt x="20200" y="30357"/>
                  </a:lnTo>
                  <a:close/>
                </a:path>
                <a:path fill="lighten" w="21600" h="31757">
                  <a:moveTo>
                    <a:pt x="0" y="3175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30357"/>
                  </a:lnTo>
                  <a:close/>
                </a:path>
                <a:path fill="darken" w="21600" h="31757">
                  <a:moveTo>
                    <a:pt x="10800" y="19882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31757">
                  <a:moveTo>
                    <a:pt x="11905" y="19360"/>
                  </a:moveTo>
                  <a:lnTo>
                    <a:pt x="11905" y="17401"/>
                  </a:lnTo>
                  <a:cubicBezTo>
                    <a:pt x="11905" y="16575"/>
                    <a:pt x="12236" y="15878"/>
                    <a:pt x="12837" y="15878"/>
                  </a:cubicBezTo>
                  <a:cubicBezTo>
                    <a:pt x="13968" y="15878"/>
                    <a:pt x="14865" y="14512"/>
                    <a:pt x="14865" y="12928"/>
                  </a:cubicBezTo>
                  <a:cubicBezTo>
                    <a:pt x="14865" y="10613"/>
                    <a:pt x="13011" y="8872"/>
                    <a:pt x="10800" y="8872"/>
                  </a:cubicBezTo>
                  <a:cubicBezTo>
                    <a:pt x="8589" y="8872"/>
                    <a:pt x="6918" y="10613"/>
                    <a:pt x="6918" y="12928"/>
                  </a:cubicBezTo>
                  <a:lnTo>
                    <a:pt x="8772" y="12928"/>
                  </a:lnTo>
                  <a:cubicBezTo>
                    <a:pt x="8772" y="11788"/>
                    <a:pt x="9695" y="10900"/>
                    <a:pt x="10800" y="10900"/>
                  </a:cubicBezTo>
                  <a:cubicBezTo>
                    <a:pt x="11905" y="10900"/>
                    <a:pt x="12837" y="11788"/>
                    <a:pt x="12837" y="12928"/>
                  </a:cubicBezTo>
                  <a:cubicBezTo>
                    <a:pt x="12837" y="13668"/>
                    <a:pt x="12367" y="14399"/>
                    <a:pt x="11905" y="14399"/>
                  </a:cubicBezTo>
                  <a:cubicBezTo>
                    <a:pt x="10800" y="14399"/>
                    <a:pt x="9695" y="15878"/>
                    <a:pt x="9695" y="17401"/>
                  </a:cubicBezTo>
                  <a:lnTo>
                    <a:pt x="9695" y="19360"/>
                  </a:lnTo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508680" y="260496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Calibri"/>
                </a:rPr>
                <a:t>H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Midland logo.jpg"/>
          <p:cNvPicPr/>
          <p:nvPr/>
        </p:nvPicPr>
        <p:blipFill>
          <a:blip r:embed="rId1"/>
          <a:stretch/>
        </p:blipFill>
        <p:spPr>
          <a:xfrm>
            <a:off x="88920" y="5603760"/>
            <a:ext cx="1635120" cy="546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8"/>
          <p:cNvSpPr/>
          <p:nvPr/>
        </p:nvSpPr>
        <p:spPr>
          <a:xfrm>
            <a:off x="1465200" y="1547640"/>
            <a:ext cx="729468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In providing those services, the team aims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to improve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 the DHBs’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operations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 and assist them to </a:t>
            </a:r>
            <a:r>
              <a:rPr b="0" lang="en-AU" sz="2800" spc="-1" strike="noStrike" u="sng">
                <a:solidFill>
                  <a:srgbClr val="002060"/>
                </a:solidFill>
                <a:uFillTx/>
                <a:latin typeface="Arial"/>
              </a:rPr>
              <a:t>achieve their objectives</a:t>
            </a: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By reporting directly to the audit committee of the Board for each DHB, the RIA service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assists the Board fulfill its core responsibility of governing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(administering and controlling) the organis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43080" y="1008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ervice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 we wish to achieve for Midlan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533160" y="3546360"/>
            <a:ext cx="630360" cy="1004040"/>
            <a:chOff x="533160" y="3546360"/>
            <a:chExt cx="630360" cy="1004040"/>
          </a:xfrm>
        </p:grpSpPr>
        <p:sp>
          <p:nvSpPr>
            <p:cNvPr id="108" name="Action Button: Help 10"/>
            <p:cNvSpPr/>
            <p:nvPr/>
          </p:nvSpPr>
          <p:spPr>
            <a:xfrm>
              <a:off x="610560" y="3546360"/>
              <a:ext cx="446040" cy="657000"/>
            </a:xfrm>
            <a:custGeom>
              <a:avLst/>
              <a:gdLst>
                <a:gd name="textAreaLeft" fmla="*/ 28800 w 446040"/>
                <a:gd name="textAreaRight" fmla="*/ 417240 w 446040"/>
                <a:gd name="textAreaTop" fmla="*/ 28800 h 657000"/>
                <a:gd name="textAreaBottom" fmla="*/ 628200 h 657000"/>
              </a:gdLst>
              <a:ahLst/>
              <a:rect l="textAreaLeft" t="textAreaTop" r="textAreaRight" b="textAreaBottom"/>
              <a:pathLst>
                <a:path w="21600" h="31808">
                  <a:moveTo>
                    <a:pt x="0" y="0"/>
                  </a:moveTo>
                  <a:lnTo>
                    <a:pt x="21600" y="0"/>
                  </a:lnTo>
                  <a:lnTo>
                    <a:pt x="21600" y="31808"/>
                  </a:lnTo>
                  <a:lnTo>
                    <a:pt x="0" y="31808"/>
                  </a:lnTo>
                  <a:close/>
                </a:path>
                <a:path fill="lightenLess" w="21600" h="3180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1808">
                  <a:moveTo>
                    <a:pt x="21600" y="0"/>
                  </a:moveTo>
                  <a:lnTo>
                    <a:pt x="21600" y="31808"/>
                  </a:lnTo>
                  <a:lnTo>
                    <a:pt x="20200" y="30408"/>
                  </a:lnTo>
                  <a:lnTo>
                    <a:pt x="20200" y="1400"/>
                  </a:lnTo>
                  <a:close/>
                </a:path>
                <a:path fill="darkenLess" w="21600" h="31808">
                  <a:moveTo>
                    <a:pt x="21600" y="31808"/>
                  </a:moveTo>
                  <a:lnTo>
                    <a:pt x="0" y="31808"/>
                  </a:lnTo>
                  <a:lnTo>
                    <a:pt x="1400" y="30408"/>
                  </a:lnTo>
                  <a:lnTo>
                    <a:pt x="20200" y="30408"/>
                  </a:lnTo>
                  <a:close/>
                </a:path>
                <a:path fill="lighten" w="21600" h="31808">
                  <a:moveTo>
                    <a:pt x="0" y="3180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30408"/>
                  </a:lnTo>
                  <a:close/>
                </a:path>
                <a:path fill="darken" w="21600" h="31808">
                  <a:moveTo>
                    <a:pt x="10800" y="19908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31808">
                  <a:moveTo>
                    <a:pt x="11905" y="19385"/>
                  </a:moveTo>
                  <a:lnTo>
                    <a:pt x="11905" y="17427"/>
                  </a:lnTo>
                  <a:cubicBezTo>
                    <a:pt x="11905" y="16600"/>
                    <a:pt x="12236" y="15904"/>
                    <a:pt x="12837" y="15904"/>
                  </a:cubicBezTo>
                  <a:cubicBezTo>
                    <a:pt x="13968" y="15904"/>
                    <a:pt x="14865" y="14537"/>
                    <a:pt x="14865" y="12953"/>
                  </a:cubicBezTo>
                  <a:cubicBezTo>
                    <a:pt x="14865" y="10638"/>
                    <a:pt x="13011" y="8897"/>
                    <a:pt x="10800" y="8897"/>
                  </a:cubicBezTo>
                  <a:cubicBezTo>
                    <a:pt x="8589" y="8897"/>
                    <a:pt x="6918" y="10638"/>
                    <a:pt x="6918" y="12953"/>
                  </a:cubicBezTo>
                  <a:lnTo>
                    <a:pt x="8772" y="12953"/>
                  </a:lnTo>
                  <a:cubicBezTo>
                    <a:pt x="8772" y="11813"/>
                    <a:pt x="9695" y="10925"/>
                    <a:pt x="10800" y="10925"/>
                  </a:cubicBezTo>
                  <a:cubicBezTo>
                    <a:pt x="11905" y="10925"/>
                    <a:pt x="12837" y="11813"/>
                    <a:pt x="12837" y="12953"/>
                  </a:cubicBezTo>
                  <a:cubicBezTo>
                    <a:pt x="12837" y="13693"/>
                    <a:pt x="12367" y="14424"/>
                    <a:pt x="11905" y="14424"/>
                  </a:cubicBezTo>
                  <a:cubicBezTo>
                    <a:pt x="10800" y="14424"/>
                    <a:pt x="9695" y="15904"/>
                    <a:pt x="9695" y="17427"/>
                  </a:cubicBezTo>
                  <a:lnTo>
                    <a:pt x="9695" y="19385"/>
                  </a:lnTo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1"/>
            <p:cNvSpPr/>
            <p:nvPr/>
          </p:nvSpPr>
          <p:spPr>
            <a:xfrm>
              <a:off x="533160" y="421308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Calibri"/>
                </a:rPr>
                <a:t>W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525240" y="1878120"/>
            <a:ext cx="598320" cy="1004760"/>
            <a:chOff x="525240" y="1878120"/>
            <a:chExt cx="598320" cy="1004760"/>
          </a:xfrm>
        </p:grpSpPr>
        <p:sp>
          <p:nvSpPr>
            <p:cNvPr id="111" name="Action Button: Help 13"/>
            <p:cNvSpPr/>
            <p:nvPr/>
          </p:nvSpPr>
          <p:spPr>
            <a:xfrm>
              <a:off x="594000" y="1878120"/>
              <a:ext cx="446040" cy="657720"/>
            </a:xfrm>
            <a:custGeom>
              <a:avLst/>
              <a:gdLst>
                <a:gd name="textAreaLeft" fmla="*/ 28800 w 446040"/>
                <a:gd name="textAreaRight" fmla="*/ 417240 w 446040"/>
                <a:gd name="textAreaTop" fmla="*/ 28800 h 657720"/>
                <a:gd name="textAreaBottom" fmla="*/ 628920 h 657720"/>
              </a:gdLst>
              <a:ahLst/>
              <a:rect l="textAreaLeft" t="textAreaTop" r="textAreaRight" b="textAreaBottom"/>
              <a:pathLst>
                <a:path w="21600" h="31843">
                  <a:moveTo>
                    <a:pt x="0" y="0"/>
                  </a:moveTo>
                  <a:lnTo>
                    <a:pt x="21600" y="0"/>
                  </a:lnTo>
                  <a:lnTo>
                    <a:pt x="21600" y="31843"/>
                  </a:lnTo>
                  <a:lnTo>
                    <a:pt x="0" y="31843"/>
                  </a:lnTo>
                  <a:close/>
                </a:path>
                <a:path fill="lightenLess" w="21600" h="3184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1843">
                  <a:moveTo>
                    <a:pt x="21600" y="0"/>
                  </a:moveTo>
                  <a:lnTo>
                    <a:pt x="21600" y="31843"/>
                  </a:lnTo>
                  <a:lnTo>
                    <a:pt x="20200" y="30443"/>
                  </a:lnTo>
                  <a:lnTo>
                    <a:pt x="20200" y="1400"/>
                  </a:lnTo>
                  <a:close/>
                </a:path>
                <a:path fill="darkenLess" w="21600" h="31843">
                  <a:moveTo>
                    <a:pt x="21600" y="31843"/>
                  </a:moveTo>
                  <a:lnTo>
                    <a:pt x="0" y="31843"/>
                  </a:lnTo>
                  <a:lnTo>
                    <a:pt x="1400" y="30443"/>
                  </a:lnTo>
                  <a:lnTo>
                    <a:pt x="20200" y="30443"/>
                  </a:lnTo>
                  <a:close/>
                </a:path>
                <a:path fill="lighten" w="21600" h="31843">
                  <a:moveTo>
                    <a:pt x="0" y="3184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30443"/>
                  </a:lnTo>
                  <a:close/>
                </a:path>
                <a:path fill="darken" w="21600" h="31843">
                  <a:moveTo>
                    <a:pt x="10800" y="1992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31843">
                  <a:moveTo>
                    <a:pt x="11905" y="19403"/>
                  </a:moveTo>
                  <a:lnTo>
                    <a:pt x="11905" y="17444"/>
                  </a:lnTo>
                  <a:cubicBezTo>
                    <a:pt x="11905" y="16618"/>
                    <a:pt x="12236" y="15921"/>
                    <a:pt x="12837" y="15921"/>
                  </a:cubicBezTo>
                  <a:cubicBezTo>
                    <a:pt x="13968" y="15921"/>
                    <a:pt x="14865" y="14555"/>
                    <a:pt x="14865" y="12971"/>
                  </a:cubicBezTo>
                  <a:cubicBezTo>
                    <a:pt x="14865" y="10656"/>
                    <a:pt x="13011" y="8915"/>
                    <a:pt x="10800" y="8915"/>
                  </a:cubicBezTo>
                  <a:cubicBezTo>
                    <a:pt x="8589" y="8915"/>
                    <a:pt x="6918" y="10656"/>
                    <a:pt x="6918" y="12971"/>
                  </a:cubicBezTo>
                  <a:lnTo>
                    <a:pt x="8772" y="12971"/>
                  </a:lnTo>
                  <a:cubicBezTo>
                    <a:pt x="8772" y="11831"/>
                    <a:pt x="9695" y="10943"/>
                    <a:pt x="10800" y="10943"/>
                  </a:cubicBezTo>
                  <a:cubicBezTo>
                    <a:pt x="11905" y="10943"/>
                    <a:pt x="12837" y="11831"/>
                    <a:pt x="12837" y="12971"/>
                  </a:cubicBezTo>
                  <a:cubicBezTo>
                    <a:pt x="12837" y="13711"/>
                    <a:pt x="12367" y="14442"/>
                    <a:pt x="11905" y="14442"/>
                  </a:cubicBezTo>
                  <a:cubicBezTo>
                    <a:pt x="10800" y="14442"/>
                    <a:pt x="9695" y="15921"/>
                    <a:pt x="9695" y="17444"/>
                  </a:cubicBezTo>
                  <a:lnTo>
                    <a:pt x="9695" y="19403"/>
                  </a:lnTo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4"/>
            <p:cNvSpPr/>
            <p:nvPr/>
          </p:nvSpPr>
          <p:spPr>
            <a:xfrm>
              <a:off x="525240" y="254556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Calibri"/>
                </a:rPr>
                <a:t>WH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 we wish to achiev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25240" y="1487520"/>
            <a:ext cx="690228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2060"/>
                </a:solidFill>
                <a:uFillTx/>
                <a:latin typeface="Arial"/>
              </a:rPr>
              <a:t>Reduction in total regional spend</a:t>
            </a: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 on back office services in the longe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2060"/>
                </a:solidFill>
                <a:uFillTx/>
                <a:latin typeface="Arial"/>
              </a:rPr>
              <a:t>More effective</a:t>
            </a: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 regional services within the current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More formal </a:t>
            </a:r>
            <a:r>
              <a:rPr b="0" lang="en-NZ" sz="1800" spc="-1" strike="noStrike" u="sng">
                <a:solidFill>
                  <a:srgbClr val="002060"/>
                </a:solidFill>
                <a:uFillTx/>
                <a:latin typeface="Arial"/>
              </a:rPr>
              <a:t>pee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Assist with </a:t>
            </a:r>
            <a:r>
              <a:rPr b="0" lang="en-NZ" sz="1800" spc="-1" strike="noStrike" u="sng">
                <a:solidFill>
                  <a:srgbClr val="002060"/>
                </a:solidFill>
                <a:uFillTx/>
                <a:latin typeface="Arial"/>
              </a:rPr>
              <a:t>retaining in-region skill</a:t>
            </a: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e.g. through broader career opportun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DHBs are 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familiar with multiple au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System, process or control </a:t>
            </a:r>
            <a:r>
              <a:rPr b="0" lang="en-NZ" sz="1800" spc="-1" strike="noStrike" u="sng">
                <a:solidFill>
                  <a:srgbClr val="002060"/>
                </a:solidFill>
                <a:uFillTx/>
                <a:latin typeface="Arial"/>
              </a:rPr>
              <a:t>requirements collated for all DH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Audits facilitate / assist in </a:t>
            </a:r>
            <a:r>
              <a:rPr b="0" lang="en-NZ" sz="1800" spc="-1" strike="noStrike" u="sng">
                <a:solidFill>
                  <a:srgbClr val="002060"/>
                </a:solidFill>
                <a:uFillTx/>
                <a:latin typeface="Arial"/>
              </a:rPr>
              <a:t>promoting or driving regional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2060"/>
                </a:solidFill>
                <a:uFillTx/>
                <a:latin typeface="Arial"/>
              </a:rPr>
              <a:t>Preferred practice easily shared</a:t>
            </a: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 amongst DH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2060"/>
                </a:solidFill>
                <a:uFillTx/>
                <a:latin typeface="Arial"/>
              </a:rPr>
              <a:t>Sundry regional initiatives</a:t>
            </a: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 assist audit committees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lients, command, customers, friends, group, managers, men, people, staff, team, users, workers icon"/>
          <p:cNvPicPr/>
          <p:nvPr/>
        </p:nvPicPr>
        <p:blipFill>
          <a:blip r:embed="rId1"/>
          <a:stretch/>
        </p:blipFill>
        <p:spPr>
          <a:xfrm>
            <a:off x="574560" y="2751120"/>
            <a:ext cx="652680" cy="652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295200" y="9507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nefits to the DHB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http://pattaniconference.pn.psu.ac.th/images/bullet-points-tick-green.png"/>
          <p:cNvPicPr/>
          <p:nvPr/>
        </p:nvPicPr>
        <p:blipFill>
          <a:blip r:embed="rId2"/>
          <a:stretch/>
        </p:blipFill>
        <p:spPr>
          <a:xfrm>
            <a:off x="620640" y="42051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sl-freight.com/wp-content/uploads/082260-green-jelly-icon-business-dollar-solid.png"/>
          <p:cNvPicPr/>
          <p:nvPr/>
        </p:nvPicPr>
        <p:blipFill>
          <a:blip r:embed="rId3"/>
          <a:stretch/>
        </p:blipFill>
        <p:spPr>
          <a:xfrm>
            <a:off x="541440" y="1579680"/>
            <a:ext cx="81432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fficient allocation of public health system re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104480"/>
            <a:ext cx="7910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ternal Audit assists DHB management and governance by developing recommendations for improvement in numerous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efficiency and effectivenes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f a department’s business operations and administrative activities, including service delivery procedures -  e.g. by streamlining and/or automating systems, processes and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tection and overall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management of medical equipment and other asset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– e.g. through sound maintenance, repair, replacement planning and security against theft or mis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Supplier contract managemen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nd monitoring – e.g. by following due procurement processes to ensure best value-for-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fficient allocation of public health system re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1920" y="990720"/>
            <a:ext cx="8207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provision, accuracy and usefulness of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financial, revenue, contract and other informat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– e.g. to help with key clinical decisions, targets achievement, income and expendit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Health and safet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anagement systems – e.g. high quality systems to avoid / minimise health and safety issues, with any subsequent diversion of effort, financial penalties and reputation da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ximising / optimising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use made of computer system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vailable within the organisation – e.g. through optimum use of expensive systems for automation, consistency, standardisation and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Security and acces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to the organisation’s information systems – e.g. by minimising system downtime and service disruption then recover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fficient allocation of public health system re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990720"/>
            <a:ext cx="820764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Midland Regional Services Plan also refers to the need to focus on the following, which the RIA service contribu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Innovat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– by providing new ideas to resolve old problems, from our RIA service or from other DH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Service integration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– by encouraging disparate services to work together through our DHB-wide and regional work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Reduced waste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– in relation to areas such as staff and managers’ time; clinical consumables or assets; misuse or misappropriation of other DHB property (e.g. vehicles, medicines, station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3:12:30Z</dcterms:created>
  <dc:creator>Visual Communications</dc:creator>
  <dc:description/>
  <dc:language>en-US</dc:language>
  <cp:lastModifiedBy>Patricia Morais</cp:lastModifiedBy>
  <cp:lastPrinted>2017-04-04T05:28:37Z</cp:lastPrinted>
  <dcterms:modified xsi:type="dcterms:W3CDTF">2017-04-07T00:37:46Z</dcterms:modified>
  <cp:revision>220</cp:revision>
  <dc:subject/>
  <dc:title>PowerPoint Presentation</dc:title>
</cp:coreProperties>
</file>